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040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 flipH="1">
            <a:off x="5327640" y="2895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645160" y="3048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664080" y="198108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477120" y="1987560"/>
            <a:ext cx="612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93520" y="282600"/>
            <a:ext cx="218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yment Due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69760" y="1090440"/>
            <a:ext cx="90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tra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05920" y="851040"/>
            <a:ext cx="103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ng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4760" y="851040"/>
            <a:ext cx="61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11240" y="109548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22680" y="1095480"/>
            <a:ext cx="12063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2160" y="1565280"/>
            <a:ext cx="1324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voice Da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3520" y="1793880"/>
            <a:ext cx="1425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Billing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39320" y="2327400"/>
            <a:ext cx="73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11240" y="1547640"/>
            <a:ext cx="1816200" cy="105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95480" y="156528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21280" y="1547640"/>
            <a:ext cx="6728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5600" y="1565280"/>
            <a:ext cx="76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15080" y="154764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41320" y="1565280"/>
            <a:ext cx="2433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count Payment Due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9000" y="2843280"/>
            <a:ext cx="1722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iv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O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O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11240" y="2749680"/>
            <a:ext cx="1587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5080" y="2766960"/>
            <a:ext cx="58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7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38560" y="274968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91040" y="290844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11440" y="3206880"/>
            <a:ext cx="212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638680" y="2889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43880" y="2908440"/>
            <a:ext cx="12063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67560" y="199404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75520" y="2801880"/>
            <a:ext cx="934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e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73520" y="2538360"/>
            <a:ext cx="96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 30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00440" y="291924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760" y="3529080"/>
            <a:ext cx="984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45080" y="355932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est Penal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93920" y="3857760"/>
            <a:ext cx="946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an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9760" y="4138560"/>
            <a:ext cx="725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CP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P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46080" y="4121280"/>
            <a:ext cx="11304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01840" y="4121280"/>
            <a:ext cx="9018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55760" y="4800600"/>
            <a:ext cx="10209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93400" y="490068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30280" y="4873680"/>
            <a:ext cx="8654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8320" y="4900680"/>
            <a:ext cx="986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8160" y="5338800"/>
            <a:ext cx="34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 Add the total of the “Interest Amount” column to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ginal amount of principle to get the payment amou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95720" y="3857760"/>
            <a:ext cx="182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aily Percentage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55280" y="3857760"/>
            <a:ext cx="105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es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74960" y="3857760"/>
            <a:ext cx="766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40920" y="3857760"/>
            <a:ext cx="126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est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7240" y="421020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7240" y="461340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7240" y="5011560"/>
            <a:ext cx="1587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7240" y="541656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88160" y="42148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88160" y="46371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88160" y="50356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88160" y="543384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54640" y="421020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54640" y="461340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54640" y="5011560"/>
            <a:ext cx="857520" cy="28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54640" y="541656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5800" y="42148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5800" y="46371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5800" y="50356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5800" y="543384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93040" y="4210200"/>
            <a:ext cx="88272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93040" y="4613400"/>
            <a:ext cx="88272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93040" y="5011560"/>
            <a:ext cx="882720" cy="31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93040" y="5416560"/>
            <a:ext cx="88272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54520" y="460692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54520" y="501156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54520" y="539280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421488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75560" y="461340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75560" y="501156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75560" y="541656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760" y="5856120"/>
            <a:ext cx="984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43160" y="5904000"/>
            <a:ext cx="128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8800" y="6272280"/>
            <a:ext cx="153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52560" y="627840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82760" y="6272280"/>
            <a:ext cx="1254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Discount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19440" y="627840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47480" y="6272280"/>
            <a:ext cx="1744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count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19840" y="627840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8800" y="6653160"/>
            <a:ext cx="153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2560" y="667692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80960" y="6653160"/>
            <a:ext cx="1650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iscount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35600" y="667692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26200" y="6653160"/>
            <a:ext cx="198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st to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29680" y="667692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79920" y="282600"/>
            <a:ext cx="1278720" cy="1184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    28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12880" y="868320"/>
            <a:ext cx="597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77440" y="754200"/>
            <a:ext cx="368280" cy="5698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28496" dir="9225519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220968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40440" y="208116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R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0400" y="3235320"/>
            <a:ext cx="1495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RLIER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83240" y="22096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46400" y="4084560"/>
            <a:ext cx="480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49840" y="421956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32280" y="3070080"/>
            <a:ext cx="71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51240" y="4213080"/>
            <a:ext cx="8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51240" y="421308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65240" y="650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4T16:11:40Z</dcterms:created>
  <dc:creator>Soldier Support Institute</dc:creator>
  <dc:description/>
  <dc:language>en-US</dc:language>
  <cp:lastModifiedBy>Administrator</cp:lastModifiedBy>
  <cp:lastPrinted>2000-03-17T15:14:36Z</cp:lastPrinted>
  <dcterms:modified xsi:type="dcterms:W3CDTF">2004-09-16T14:14:21Z</dcterms:modified>
  <cp:revision>5</cp:revision>
  <dc:subject/>
  <dc:title>DUE DATES</dc:title>
</cp:coreProperties>
</file>